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6CF-4974-447C-9C37-2D494654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EFD-8D56-41F7-A398-37807D6F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33D-E1A4-4698-8A0D-0995165B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870-B6AF-474A-BB95-E8EA0831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CF0-735F-4C32-BCF2-A096EDC0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2EC-FAD5-4723-986A-F385CEE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1E6-1BD7-49E2-A5F7-BE830D0F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C99-ED38-4DDB-9CBF-66A82E7A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2B7-9F15-42B4-98DA-9EA7ACB2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E1A-D398-44A7-BBC5-80F8D95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005-7CE7-4737-8D5D-B0CC40E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8E3-1C30-4B4A-A426-A803E87F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FCF-7AA0-4056-B187-F1BDEBA6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тестац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х кадр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личество аттестованных педагогических и руководящих работников учреждений, подведомственных Департаменту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42960" y="1757520"/>
          <a:ext cx="8040600" cy="41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757520"/>
                    <a:ext cx="8040600" cy="41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личество заявлений на аттестацию до конца 2010 года по учреждениям, подведомственным Департаменту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71640" y="1413000"/>
          <a:ext cx="73911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3911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квалификации педагогических и руководящих кадров образовательных учреждений Департамент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намика уровня квалификации педагогических работников образовательных учреждений Департамента образования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28560" y="1338120"/>
          <a:ext cx="79218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338120"/>
                    <a:ext cx="79218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 педагогических и руководящих кадров общеобразовательных учреждений Департамента образования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май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1830240"/>
          <a:ext cx="7789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830240"/>
                    <a:ext cx="7789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9:35:58Z</dcterms:created>
  <dc:creator>User</dc:creator>
  <dc:description/>
  <dc:language>en-US</dc:language>
  <cp:lastModifiedBy>User</cp:lastModifiedBy>
  <dcterms:modified xsi:type="dcterms:W3CDTF">2010-07-01T05:35:34Z</dcterms:modified>
  <cp:revision>27</cp:revision>
  <dc:subject/>
  <dc:title>Аттестация  педагогических кадров  в 2008-2009 учебном году</dc:title>
</cp:coreProperties>
</file>